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buzzer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2C6-F927-4642-B12F-577E7DEE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A38-3EC9-4E71-B0F2-AC07BEE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8AA-F701-4FA3-837E-ED25FB2C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F2B-7951-41B3-97B2-D98E6384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41F-18A4-4A31-BA15-9F85C20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9C8-0E39-4986-8E3B-559414E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06F-B54C-4EEC-A802-EB89BF0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2CB-F069-45FC-A027-2C4E12FD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220-2913-4EE8-8052-6F9FAFF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2A8-9EE0-4DB4-8419-E4D9512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6E6-F16C-42AB-918D-340AD7B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D69-ADEA-4897-B576-8E76086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555-722A-434B-810C-3D3A3C80B4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5486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48640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ular Callout 4"/>
          <p:cNvSpPr/>
          <p:nvPr/>
        </p:nvSpPr>
        <p:spPr>
          <a:xfrm>
            <a:off x="4648320" y="2438280"/>
            <a:ext cx="3352680" cy="2667240"/>
          </a:xfrm>
          <a:prstGeom prst="wedgeRoundRectCallout">
            <a:avLst>
              <a:gd name="adj1" fmla="val -96925"/>
              <a:gd name="adj2" fmla="val 2364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8006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1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Without a doub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ounded Rectangular Callout 5"/>
          <p:cNvSpPr/>
          <p:nvPr/>
        </p:nvSpPr>
        <p:spPr>
          <a:xfrm>
            <a:off x="5181480" y="5029200"/>
            <a:ext cx="2819520" cy="1676520"/>
          </a:xfrm>
          <a:prstGeom prst="wedgeRoundRectCallout">
            <a:avLst>
              <a:gd name="adj1" fmla="val -147314"/>
              <a:gd name="adj2" fmla="val -270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 commas as well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ubtitle 2"/>
          <p:cNvSpPr/>
          <p:nvPr/>
        </p:nvSpPr>
        <p:spPr>
          <a:xfrm>
            <a:off x="762120" y="152388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commas to conn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roductory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errupt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om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clud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rupting material will include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fte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ss the comma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2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6572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 Slacker Sam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60948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 comma with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ordinating conjunc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connect two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ing conjunctions =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e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ubtitle 2"/>
          <p:cNvSpPr/>
          <p:nvPr/>
        </p:nvSpPr>
        <p:spPr>
          <a:xfrm>
            <a:off x="1066680" y="3657600"/>
            <a:ext cx="70106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lacker Sam will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modest.jpg"/>
          <p:cNvPicPr/>
          <p:nvPr/>
        </p:nvPicPr>
        <p:blipFill>
          <a:blip r:embed="rId1"/>
          <a:srcRect l="0" t="0" r="0" b="39064"/>
          <a:stretch/>
        </p:blipFill>
        <p:spPr>
          <a:xfrm>
            <a:off x="1371600" y="4521240"/>
            <a:ext cx="3648240" cy="2336760"/>
          </a:xfrm>
          <a:prstGeom prst="rect">
            <a:avLst/>
          </a:prstGeom>
          <a:ln w="0">
            <a:noFill/>
          </a:ln>
        </p:spPr>
      </p:pic>
      <p:sp>
        <p:nvSpPr>
          <p:cNvPr id="123" name="Rounded Rectangular Callout 5"/>
          <p:cNvSpPr/>
          <p:nvPr/>
        </p:nvSpPr>
        <p:spPr>
          <a:xfrm>
            <a:off x="5638680" y="4724280"/>
            <a:ext cx="2895840" cy="1905120"/>
          </a:xfrm>
          <a:prstGeom prst="wedgeRoundRectCallout">
            <a:avLst>
              <a:gd name="adj1" fmla="val -128208"/>
              <a:gd name="adj2" fmla="val -1026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d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l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happy.jpg"/>
          <p:cNvPicPr/>
          <p:nvPr/>
        </p:nvPicPr>
        <p:blipFill>
          <a:blip r:embed="rId1"/>
          <a:stretch/>
        </p:blipFill>
        <p:spPr>
          <a:xfrm>
            <a:off x="457200" y="4038480"/>
            <a:ext cx="1558800" cy="281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3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otdo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762120" y="1523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e 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w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commas and a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hree or mor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143000" y="3276720"/>
            <a:ext cx="6858000" cy="1066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hotdog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ounded Rectangular Callout 5"/>
          <p:cNvSpPr/>
          <p:nvPr/>
        </p:nvSpPr>
        <p:spPr>
          <a:xfrm>
            <a:off x="4114800" y="4495680"/>
            <a:ext cx="2819520" cy="1676520"/>
          </a:xfrm>
          <a:prstGeom prst="wedgeRoundRectCallout">
            <a:avLst>
              <a:gd name="adj1" fmla="val -163500"/>
              <a:gd name="adj2" fmla="val -47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rd 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rve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w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micolo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statistics. Math is not her best subjec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609480" y="1523880"/>
            <a:ext cx="79250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connect two main cl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to introduce a list. The comma with a transition lik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ch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clud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does that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ubtitle 2"/>
          <p:cNvSpPr/>
          <p:nvPr/>
        </p:nvSpPr>
        <p:spPr>
          <a:xfrm>
            <a:off x="1143000" y="3962520"/>
            <a:ext cx="685800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tatistics; ma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her best su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1143000" y="3962520"/>
            <a:ext cx="6858000" cy="1523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prefers classes that require her to writ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tro to Humanities, Abnormal Psychology, and US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modest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5791320" y="5095800"/>
            <a:ext cx="3352680" cy="17622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9"/>
          <p:cNvSpPr/>
          <p:nvPr/>
        </p:nvSpPr>
        <p:spPr>
          <a:xfrm>
            <a:off x="1752480" y="5486400"/>
            <a:ext cx="2667240" cy="1143000"/>
          </a:xfrm>
          <a:prstGeom prst="wedgeRoundRectCallout">
            <a:avLst>
              <a:gd name="adj1" fmla="val 143000"/>
              <a:gd name="adj2" fmla="val -96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I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unct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ostroph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42670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t  cheat from Jasmines punctuation quiz because shes  absent today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Subtitle 2"/>
          <p:cNvSpPr/>
          <p:nvPr/>
        </p:nvSpPr>
        <p:spPr>
          <a:xfrm>
            <a:off x="685800" y="1447920"/>
            <a:ext cx="7924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postrophe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ith a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how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ossess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Jasmin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, the c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yes, the profess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’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use the apostrophe to indicate the letters/spaces removed in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trac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, can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, shoul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219320" y="4267080"/>
            <a:ext cx="670536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 cheat from Jasmin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punctuation quiz because sh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 absent tod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scream.jpg"/>
          <p:cNvPicPr/>
          <p:nvPr/>
        </p:nvPicPr>
        <p:blipFill>
          <a:blip r:embed="rId1"/>
          <a:stretch/>
        </p:blipFill>
        <p:spPr>
          <a:xfrm>
            <a:off x="0" y="5334120"/>
            <a:ext cx="1163520" cy="152388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ular Callout 9"/>
          <p:cNvSpPr/>
          <p:nvPr/>
        </p:nvSpPr>
        <p:spPr>
          <a:xfrm>
            <a:off x="2971800" y="5410080"/>
            <a:ext cx="2666880" cy="1219320"/>
          </a:xfrm>
          <a:prstGeom prst="wedgeRoundRectCallout">
            <a:avLst>
              <a:gd name="adj1" fmla="val -134967"/>
              <a:gd name="adj2" fmla="val 8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tist appoin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016520"/>
            <a:ext cx="2209680" cy="2841480"/>
          </a:xfrm>
          <a:prstGeom prst="rect">
            <a:avLst/>
          </a:prstGeom>
          <a:ln w="0">
            <a:noFill/>
          </a:ln>
        </p:spPr>
      </p:pic>
      <p:sp>
        <p:nvSpPr>
          <p:cNvPr id="146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31078"/>
              <a:gd name="adj2" fmla="val -2684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451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951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 Raymond will eat a grasshopper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vegetables; such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bles;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getables,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exam Scott rubbed his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foot and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xam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33520" y="1600200"/>
            <a:ext cx="822960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m,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chair’s but six guests com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remembers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a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ha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dishes;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tri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month’s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shes;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sh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dunno.jpg"/>
          <p:cNvPicPr/>
          <p:nvPr/>
        </p:nvPicPr>
        <p:blipFill>
          <a:blip r:embed="rId1"/>
          <a:srcRect l="0" t="0" r="0" b="28124"/>
          <a:stretch/>
        </p:blipFill>
        <p:spPr>
          <a:xfrm>
            <a:off x="2438280" y="2643120"/>
            <a:ext cx="4524480" cy="4214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andard Punctuation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ounded Rectangular Callout 7"/>
          <p:cNvSpPr/>
          <p:nvPr/>
        </p:nvSpPr>
        <p:spPr>
          <a:xfrm>
            <a:off x="304920" y="3809880"/>
            <a:ext cx="2133360" cy="1295640"/>
          </a:xfrm>
          <a:prstGeom prst="wedgeRoundRectCallout">
            <a:avLst>
              <a:gd name="adj1" fmla="val 137356"/>
              <a:gd name="adj2" fmla="val -92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ounded Rectangular Callout 8"/>
          <p:cNvSpPr/>
          <p:nvPr/>
        </p:nvSpPr>
        <p:spPr>
          <a:xfrm>
            <a:off x="6400800" y="4495680"/>
            <a:ext cx="2514600" cy="1371600"/>
          </a:xfrm>
          <a:prstGeom prst="wedgeRoundRectCallout">
            <a:avLst>
              <a:gd name="adj1" fmla="val -105828"/>
              <a:gd name="adj2" fmla="val -53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emicol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can’t leave work early, and Peggy wo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’ll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picnic, we were tormented by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: ants swarming into the pota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, bees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is correctly punct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342900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74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28222"/>
              <a:gd name="adj2" fmla="val -4423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fferent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181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681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4952880" y="2362320"/>
            <a:ext cx="3733920" cy="2895480"/>
          </a:xfrm>
          <a:prstGeom prst="wedgeRoundRectCallout">
            <a:avLst>
              <a:gd name="adj1" fmla="val -103453"/>
              <a:gd name="adj2" fmla="val 1837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m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karate.jpg"/>
          <p:cNvPicPr/>
          <p:nvPr/>
        </p:nvPicPr>
        <p:blipFill>
          <a:blip r:embed="rId1"/>
          <a:stretch/>
        </p:blipFill>
        <p:spPr>
          <a:xfrm>
            <a:off x="6629400" y="1676520"/>
            <a:ext cx="1905120" cy="4876560"/>
          </a:xfrm>
          <a:prstGeom prst="rect">
            <a:avLst/>
          </a:prstGeom>
          <a:ln w="0">
            <a:noFill/>
          </a:ln>
        </p:spPr>
      </p:pic>
      <p:sp>
        <p:nvSpPr>
          <p:cNvPr id="88" name="Rounded Rectangular Callout 2"/>
          <p:cNvSpPr/>
          <p:nvPr/>
        </p:nvSpPr>
        <p:spPr>
          <a:xfrm>
            <a:off x="533520" y="2743200"/>
            <a:ext cx="3352680" cy="3505320"/>
          </a:xfrm>
          <a:prstGeom prst="wedgeRoundRectCallout">
            <a:avLst>
              <a:gd name="adj1" fmla="val 138708"/>
              <a:gd name="adj2" fmla="val -4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standard punctuation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nd mark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mm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emicol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items on an objective test might look like thes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car we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chicken and rice that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r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ar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lookup.jpg"/>
          <p:cNvPicPr/>
          <p:nvPr/>
        </p:nvPicPr>
        <p:blipFill>
          <a:blip r:embed="rId1"/>
          <a:stretch/>
        </p:blipFill>
        <p:spPr>
          <a:xfrm>
            <a:off x="6324480" y="3505320"/>
            <a:ext cx="70164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7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4412"/>
              <a:gd name="adj2" fmla="val -810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need 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m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hick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r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ounded Rectangular Callout 8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5000"/>
              <a:gd name="adj2" fmla="val -82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xactly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connect the introductory cl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09480" y="1523880"/>
            <a:ext cx="7925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ular Callout 18"/>
          <p:cNvSpPr/>
          <p:nvPr/>
        </p:nvSpPr>
        <p:spPr>
          <a:xfrm>
            <a:off x="1676520" y="4876920"/>
            <a:ext cx="4343400" cy="1752480"/>
          </a:xfrm>
          <a:prstGeom prst="wedgeRoundRectCallout">
            <a:avLst>
              <a:gd name="adj1" fmla="val 67662"/>
              <a:gd name="adj2" fmla="val -52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tem might hav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4 ver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 sentence, and you will have to choose the letter w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ll punct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609480" y="1523880"/>
            <a:ext cx="8305920" cy="3048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lookup.jpg"/>
          <p:cNvPicPr/>
          <p:nvPr/>
        </p:nvPicPr>
        <p:blipFill>
          <a:blip r:embed="rId1"/>
          <a:stretch/>
        </p:blipFill>
        <p:spPr>
          <a:xfrm>
            <a:off x="6781680" y="4411800"/>
            <a:ext cx="549360" cy="244620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20"/>
          <p:cNvSpPr/>
          <p:nvPr/>
        </p:nvSpPr>
        <p:spPr>
          <a:xfrm>
            <a:off x="3733920" y="4876920"/>
            <a:ext cx="2286000" cy="1752480"/>
          </a:xfrm>
          <a:prstGeom prst="wedgeRoundRectCallout">
            <a:avLst>
              <a:gd name="adj1" fmla="val 83976"/>
              <a:gd name="adj2" fmla="val -535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ce that th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ers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Mark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erio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e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tat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hen asking a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Did Jasmine eat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veruse</a:t>
            </a:r>
            <a:r>
              <a:rPr b="0" i="1" lang="en-US" sz="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lama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ignif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itemen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mpha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Oh, no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angry.jpg"/>
          <p:cNvPicPr/>
          <p:nvPr/>
        </p:nvPicPr>
        <p:blipFill>
          <a:blip r:embed="rId1"/>
          <a:srcRect l="0" t="0" r="0" b="32812"/>
          <a:stretch/>
        </p:blipFill>
        <p:spPr>
          <a:xfrm>
            <a:off x="0" y="2590920"/>
            <a:ext cx="486396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Rounded Rectangular Callout 9"/>
          <p:cNvSpPr/>
          <p:nvPr/>
        </p:nvSpPr>
        <p:spPr>
          <a:xfrm>
            <a:off x="5638680" y="2743200"/>
            <a:ext cx="3124440" cy="3200400"/>
          </a:xfrm>
          <a:prstGeom prst="wedgeRoundRectCallout">
            <a:avLst>
              <a:gd name="adj1" fmla="val -143745"/>
              <a:gd name="adj2" fmla="val 42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I have broccoli stuck in my teeth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 have an appointment at the dentis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exclamation ma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er essa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s a good averag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1" descr="scream.jpg"/>
          <p:cNvPicPr/>
          <p:nvPr/>
        </p:nvPicPr>
        <p:blipFill>
          <a:blip r:embed="rId1"/>
          <a:stretch/>
        </p:blipFill>
        <p:spPr>
          <a:xfrm>
            <a:off x="0" y="1981080"/>
            <a:ext cx="3724200" cy="487692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2"/>
          <p:cNvSpPr/>
          <p:nvPr/>
        </p:nvSpPr>
        <p:spPr>
          <a:xfrm>
            <a:off x="4952880" y="1371600"/>
            <a:ext cx="3962520" cy="3505320"/>
          </a:xfrm>
          <a:prstGeom prst="wedgeRoundRectCallout">
            <a:avLst>
              <a:gd name="adj1" fmla="val -130472"/>
              <a:gd name="adj2" fmla="val 350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 really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mean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exclamation mark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ant to use it all 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ti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952880" y="13716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dc:language>en-US</dc:language>
  <cp:lastModifiedBy>RSimmons</cp:lastModifiedBy>
  <dcterms:modified xsi:type="dcterms:W3CDTF">2010-01-04T18:36:03Z</dcterms:modified>
  <cp:revision>156</cp:revision>
  <dc:subject/>
  <dc:title>Punctuation</dc:title>
</cp:coreProperties>
</file>